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BFF-7AEA-42D5-983B-FEAFF567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2130-F47B-4996-81B5-8194EB1A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3798-D693-4C6C-9995-31D8BD7E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A722-F301-400B-97CF-F58CFC59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8AFC-CCB4-448B-8210-2A63812B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15AB-0CD3-47B8-81AE-93725E18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CC3C-40B2-4493-9733-DEA6BC42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E7D7-1A44-486E-80B7-48244BE8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4912-8E45-4291-9BE9-FBE06440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EDC9-05CD-4444-A135-213CEF6F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ED73-4F15-4129-8145-30091C14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080D-A646-4918-B8F0-0505EA1C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D18E-3975-4A07-954C-6190EB2B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E5CB-4C74-4E27-A104-42BB8402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4704-B26E-4856-802F-F23F71A7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8376-7066-435B-BBC5-1D35E0DE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1187-791A-4CC2-A333-9DFBD772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B2F6-254B-4DB7-8B9B-2890B46D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B289-243F-48B4-9A2A-BF427C5F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2273-9537-4086-8ABA-B490FF95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C572-443E-41CE-94F1-39FDD44F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A94-4B67-4804-9678-533A4F21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DB84-D4D6-4892-90F4-BC271B7F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377-3F70-4FB9-A7C3-C01B76EB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0877-2A42-4300-8846-293ED3B425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70DE-78BC-469F-ABD0-CA45801083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100500foto.com/wp-content/uploads/2015/06/1-Shoes-with-a-built-in-ten.jp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826920" y="496800"/>
            <a:ext cx="8137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ехнолог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щита интеллектуальной собственности    и авторского пра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Рисунок 87" descr="Защита интеллектуальной собственности"/>
          <p:cNvPicPr/>
          <p:nvPr/>
        </p:nvPicPr>
        <p:blipFill>
          <a:blip r:embed="rId1"/>
          <a:stretch/>
        </p:blipFill>
        <p:spPr>
          <a:xfrm>
            <a:off x="179280" y="2693880"/>
            <a:ext cx="3745080" cy="26719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"/>
          <p:cNvSpPr/>
          <p:nvPr/>
        </p:nvSpPr>
        <p:spPr>
          <a:xfrm>
            <a:off x="4636440" y="3284640"/>
            <a:ext cx="15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 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463680" y="4559400"/>
            <a:ext cx="8326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опыта работы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.Р.Мальгивская, учитель технологии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Восходненская школа имени В.И.Криворотова» Красногвардейский район Республика Кры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20г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826920" y="309600"/>
            <a:ext cx="8137800" cy="65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исание изобрет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писание должно раскрывать изобретение с полнотой, достаточной для осуществления. То есть специалист в данной области техники на основании описания должен иметь достаточно информации для  реализации изобрет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Times New Roman"/>
              </a:rPr>
              <a:t>Описание изобретения </a:t>
            </a:r>
            <a:r>
              <a:rPr b="0" i="1" lang="ru-RU" sz="2600" spc="-1" strike="noStrike" u="sng">
                <a:solidFill>
                  <a:srgbClr val="002060"/>
                </a:solidFill>
                <a:uFillTx/>
                <a:latin typeface="Times New Roman"/>
              </a:rPr>
              <a:t>содержит следующие разделы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ласть техники, к которой относится изобретение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ровень техник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скрытие изобретени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раткое, но отражающее главную мысль (суть)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обретения описание чертежей, схем, рисунков,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скизов (если они содержатся в заявке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изобрет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826920" y="70272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утящийся рожок для мороженого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тент выдан в 1999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Рисунок 18" descr="нелепые, абсурдные, патенты, изобретения"/>
          <p:cNvPicPr/>
          <p:nvPr/>
        </p:nvPicPr>
        <p:blipFill>
          <a:blip r:embed="rId1"/>
          <a:srcRect l="10350" t="0" r="9310" b="0"/>
          <a:stretch/>
        </p:blipFill>
        <p:spPr>
          <a:xfrm>
            <a:off x="1042920" y="3141720"/>
            <a:ext cx="3313080" cy="2494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rcRect l="4937" t="5291" r="7677" b="0"/>
          <a:stretch/>
        </p:blipFill>
        <p:spPr>
          <a:xfrm>
            <a:off x="4140360" y="2568600"/>
            <a:ext cx="4824360" cy="3638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1231920" y="913320"/>
            <a:ext cx="719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Соска, которую невозможно выплюнуть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патент выдан в 2000 год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Рисунок 22" descr="нелепые, абсурдные, патенты, изобретения"/>
          <p:cNvPicPr/>
          <p:nvPr/>
        </p:nvPicPr>
        <p:blipFill>
          <a:blip r:embed="rId1"/>
          <a:srcRect l="25688" t="0" r="23187" b="0"/>
          <a:stretch/>
        </p:blipFill>
        <p:spPr>
          <a:xfrm>
            <a:off x="2916360" y="2708280"/>
            <a:ext cx="3825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0" y="5370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425160" y="620640"/>
            <a:ext cx="84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валанг для животных, патент выдан в 2001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Рисунок 14" descr="нелепые, абсурдные, патенты, изобретения"/>
          <p:cNvPicPr/>
          <p:nvPr/>
        </p:nvPicPr>
        <p:blipFill>
          <a:blip r:embed="rId1"/>
          <a:srcRect l="27994" t="0" r="29335" b="0"/>
          <a:stretch/>
        </p:blipFill>
        <p:spPr>
          <a:xfrm>
            <a:off x="2556000" y="1724040"/>
            <a:ext cx="4464000" cy="4944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900000" y="629640"/>
            <a:ext cx="755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сы, показывающие оставшееся время жизни, патент выдан в 2002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Рисунок 16" descr="нелепые, абсурдные, патенты, изобретения"/>
          <p:cNvPicPr/>
          <p:nvPr/>
        </p:nvPicPr>
        <p:blipFill>
          <a:blip r:embed="rId1"/>
          <a:srcRect l="25732" t="0" r="24006" b="0"/>
          <a:stretch/>
        </p:blipFill>
        <p:spPr>
          <a:xfrm>
            <a:off x="1116000" y="2708280"/>
            <a:ext cx="2448000" cy="3816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rcRect l="4724" t="8797" r="4488" b="9973"/>
          <a:stretch/>
        </p:blipFill>
        <p:spPr>
          <a:xfrm>
            <a:off x="3564000" y="2708280"/>
            <a:ext cx="52560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324160" y="354960"/>
            <a:ext cx="642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водок для выгуливания змей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тент выдан в 2002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Рисунок 20" descr="нелепые, абсурдные, патенты, изобретения"/>
          <p:cNvPicPr/>
          <p:nvPr/>
        </p:nvPicPr>
        <p:blipFill>
          <a:blip r:embed="rId1"/>
          <a:srcRect l="1487" t="76" r="6494" b="4233"/>
          <a:stretch/>
        </p:blipFill>
        <p:spPr>
          <a:xfrm>
            <a:off x="4716360" y="1773360"/>
            <a:ext cx="41626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1258920" y="1413000"/>
            <a:ext cx="3600360" cy="5111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846360" y="750960"/>
            <a:ext cx="78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чки, которые крепятся с помощью пирсинга,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тент выдан в 2003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Рисунок 11" descr="нелепые, абсурдные, патенты, изобретения"/>
          <p:cNvPicPr/>
          <p:nvPr/>
        </p:nvPicPr>
        <p:blipFill>
          <a:blip r:embed="rId1"/>
          <a:srcRect l="23049" t="6987" r="23540" b="9881"/>
          <a:stretch/>
        </p:blipFill>
        <p:spPr>
          <a:xfrm>
            <a:off x="811080" y="2276640"/>
            <a:ext cx="3024360" cy="3027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rcRect l="13361" t="3265" r="3252" b="0"/>
          <a:stretch/>
        </p:blipFill>
        <p:spPr>
          <a:xfrm>
            <a:off x="3835440" y="1908000"/>
            <a:ext cx="4984560" cy="4689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943280" y="1890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еды со встроенной палатк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Рисунок 56" descr="Кеды со встроенной палатко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957240"/>
            <a:ext cx="7777440" cy="5689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2195640" y="1580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Штаны для пикн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Рисунок 58" descr="Штаны для пикника"/>
          <p:cNvPicPr/>
          <p:nvPr/>
        </p:nvPicPr>
        <p:blipFill>
          <a:blip r:embed="rId1"/>
          <a:stretch/>
        </p:blipFill>
        <p:spPr>
          <a:xfrm>
            <a:off x="1258920" y="907920"/>
            <a:ext cx="7561080" cy="56898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0" y="583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1324080" y="93600"/>
            <a:ext cx="69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душка в виде коленок девуш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Рисунок 61" descr="Подушка в виде коленок девушки"/>
          <p:cNvPicPr/>
          <p:nvPr/>
        </p:nvPicPr>
        <p:blipFill>
          <a:blip r:embed="rId1"/>
          <a:srcRect l="378" t="0" r="-372" b="12095"/>
          <a:stretch/>
        </p:blipFill>
        <p:spPr>
          <a:xfrm>
            <a:off x="1324080" y="1058760"/>
            <a:ext cx="7640640" cy="5327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0" y="55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rcRect l="0" t="5088" r="0" b="0"/>
          <a:stretch/>
        </p:blipFill>
        <p:spPr>
          <a:xfrm>
            <a:off x="324000" y="907920"/>
            <a:ext cx="8604000" cy="5472360"/>
          </a:xfrm>
          <a:prstGeom prst="rect">
            <a:avLst/>
          </a:prstGeom>
          <a:ln w="0">
            <a:noFill/>
          </a:ln>
        </p:spPr>
      </p:pic>
      <p:sp>
        <p:nvSpPr>
          <p:cNvPr id="97" name="Выноска со стрелкой вниз 1"/>
          <p:cNvSpPr/>
          <p:nvPr/>
        </p:nvSpPr>
        <p:spPr>
          <a:xfrm>
            <a:off x="2987640" y="298440"/>
            <a:ext cx="3097080" cy="574560"/>
          </a:xfrm>
          <a:prstGeom prst="downArrowCallout">
            <a:avLst>
              <a:gd name="adj1" fmla="val 25008"/>
              <a:gd name="adj2" fmla="val 25005"/>
              <a:gd name="adj3" fmla="val 25000"/>
              <a:gd name="adj4" fmla="val 6497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пишите в тетрад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2759040" y="203040"/>
            <a:ext cx="505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ригинальные туф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Рисунок 62" descr="Оригинальные туфли"/>
          <p:cNvPicPr/>
          <p:nvPr/>
        </p:nvPicPr>
        <p:blipFill>
          <a:blip r:embed="rId1"/>
          <a:srcRect l="0" t="0" r="0" b="11088"/>
          <a:stretch/>
        </p:blipFill>
        <p:spPr>
          <a:xfrm>
            <a:off x="1258920" y="1484280"/>
            <a:ext cx="7634160" cy="51134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0" y="577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2468520" y="301320"/>
            <a:ext cx="492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ентилятор для лапш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Рисунок 63" descr="Вентилятор ramen"/>
          <p:cNvPicPr/>
          <p:nvPr/>
        </p:nvPicPr>
        <p:blipFill>
          <a:blip r:embed="rId1"/>
          <a:srcRect l="0" t="0" r="0" b="10659"/>
          <a:stretch/>
        </p:blipFill>
        <p:spPr>
          <a:xfrm>
            <a:off x="1187280" y="1230480"/>
            <a:ext cx="7777440" cy="49719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4"/>
          <p:cNvSpPr/>
          <p:nvPr/>
        </p:nvSpPr>
        <p:spPr>
          <a:xfrm>
            <a:off x="0" y="55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2484360" y="91800"/>
            <a:ext cx="402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Мыло в виде ру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Рисунок 66" descr="Мыло в виде руки"/>
          <p:cNvPicPr/>
          <p:nvPr/>
        </p:nvPicPr>
        <p:blipFill>
          <a:blip r:embed="rId1"/>
          <a:srcRect l="0" t="0" r="0" b="6703"/>
          <a:stretch/>
        </p:blipFill>
        <p:spPr>
          <a:xfrm>
            <a:off x="1258920" y="836640"/>
            <a:ext cx="7561080" cy="5761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0" y="648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1005840" y="599760"/>
            <a:ext cx="76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амая большая в мире кофейная чаш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Рисунок 68" descr="Самая большая в мире кофейная чашка"/>
          <p:cNvPicPr/>
          <p:nvPr/>
        </p:nvPicPr>
        <p:blipFill>
          <a:blip r:embed="rId1"/>
          <a:stretch/>
        </p:blipFill>
        <p:spPr>
          <a:xfrm>
            <a:off x="1908000" y="1628640"/>
            <a:ext cx="5185080" cy="5069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03640" y="301320"/>
            <a:ext cx="547992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50920" y="18273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Verdana"/>
              </a:rPr>
              <a:t>Подготовьте сообщение на тему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Verdana"/>
              </a:rPr>
              <a:t>“</a:t>
            </a:r>
            <a:r>
              <a:rPr b="1" lang="ru-RU" sz="2900" spc="-1" strike="noStrike">
                <a:solidFill>
                  <a:srgbClr val="c00000"/>
                </a:solidFill>
                <a:latin typeface="Verdana"/>
              </a:rPr>
              <a:t>Рационализаторские предложения и их авторы</a:t>
            </a:r>
            <a:r>
              <a:rPr b="1" lang="en-US" sz="2900" spc="-1" strike="noStrike">
                <a:solidFill>
                  <a:srgbClr val="c00000"/>
                </a:solidFill>
                <a:latin typeface="Verdana"/>
              </a:rPr>
              <a:t>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rcRect l="13846" t="28105" r="14618" b="0"/>
          <a:stretch/>
        </p:blipFill>
        <p:spPr>
          <a:xfrm>
            <a:off x="755640" y="1776240"/>
            <a:ext cx="3095640" cy="4104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900000" y="907920"/>
            <a:ext cx="799308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теллектуальная собствен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закреплённые законом  исключительные  права  на  результат интеллектуальной  деятельности  или  средства индивидуал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онодательство, которое определяет права на интеллектуальную собственность, устанавливает монополию авторов на определённые формы использования результатов своей интеллектуальной, творческой деятельности, которые, таким образом, могут использоваться другими лицами лишь с разрешения первы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Выноска со стрелкой вниз 1"/>
          <p:cNvSpPr/>
          <p:nvPr/>
        </p:nvSpPr>
        <p:spPr>
          <a:xfrm>
            <a:off x="900000" y="260280"/>
            <a:ext cx="3311640" cy="647640"/>
          </a:xfrm>
          <a:prstGeom prst="downArrowCallout">
            <a:avLst>
              <a:gd name="adj1" fmla="val 25001"/>
              <a:gd name="adj2" fmla="val 24999"/>
              <a:gd name="adj3" fmla="val 25000"/>
              <a:gd name="adj4" fmla="val 6497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пишите в тетрад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179280" y="2438280"/>
            <a:ext cx="871380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5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вторское прав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бъектами авторского права являютс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оизведения науки, литературы и искусства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являющиеся результатом творческой деятельности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уществующие в объективной форме, т.е. в форме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зволяющей иным лицам, кроме автора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накомиться с произведение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- рукопись, рисунок, скульптура и т.д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Выноска со стрелкой вниз 1"/>
          <p:cNvSpPr/>
          <p:nvPr/>
        </p:nvSpPr>
        <p:spPr>
          <a:xfrm>
            <a:off x="2916360" y="1790640"/>
            <a:ext cx="3024000" cy="649440"/>
          </a:xfrm>
          <a:prstGeom prst="downArrowCallout">
            <a:avLst>
              <a:gd name="adj1" fmla="val 25008"/>
              <a:gd name="adj2" fmla="val 24984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апишите в тетрад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755640" y="404640"/>
            <a:ext cx="7993080" cy="947160"/>
          </a:xfrm>
          <a:prstGeom prst="rect">
            <a:avLst/>
          </a:prstGeom>
          <a:solidFill>
            <a:srgbClr val="eb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умай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является объектом авторского прав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042920" y="476280"/>
            <a:ext cx="7777080" cy="67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держание и срок действия авторского пра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втору в отношении его произведения принадлежат исключительные права на использование произведения в любой форме и любым способом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вторское право действует в течение всей жизни автора и 50 лет после его смерти.</a:t>
            </a:r>
            <a:br>
              <a:rPr sz="3200"/>
            </a:br>
            <a:br>
              <a:rPr sz="24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17440" y="692280"/>
            <a:ext cx="7705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к охраны авторского права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оповещения о своих правах автор может использовать знак охраны авторского права, который помещается на каждом экземпляре произведения и состоит из трех элементов: </a:t>
            </a:r>
            <a:r>
              <a:rPr b="0" i="1" lang="ru-RU" sz="2400" spc="-1" strike="noStrike">
                <a:solidFill>
                  <a:srgbClr val="269999"/>
                </a:solidFill>
                <a:latin typeface="Verdana"/>
              </a:rPr>
              <a:t>латинской буквы "С" в окружности; имени автора; года первого опубликования произведения.</a:t>
            </a:r>
            <a:br>
              <a:rPr sz="2400"/>
            </a:b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826920" y="765000"/>
            <a:ext cx="8066160" cy="58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еспечение доказательства автор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торское право возникает в силу факта создания произведения и не требует регистрации. Автор может обеспечить доказательства своего авторства путем регистрации своего произведения                  в общественных организациях (например,               в Российском авторском обществе), в некоторых случаях - в государственных организациях. Регистрация является добровольной и облагается государственной пошли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781200" y="549360"/>
            <a:ext cx="8208720" cy="43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атен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хранный документ, удостоверяющий исключительное право, авторство и приоритет изобретения , полезной  модели  либо  промышленного образц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</a:rPr>
              <a:t>Срок действия патента зависит от страны патентования, объекта патентования и составляет от 5 до 25 лет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Выноска со стрелкой вниз 1"/>
          <p:cNvSpPr/>
          <p:nvPr/>
        </p:nvSpPr>
        <p:spPr>
          <a:xfrm>
            <a:off x="360360" y="115920"/>
            <a:ext cx="3168720" cy="554040"/>
          </a:xfrm>
          <a:prstGeom prst="downArrowCallout">
            <a:avLst>
              <a:gd name="adj1" fmla="val 24998"/>
              <a:gd name="adj2" fmla="val 24995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апишите в тетрад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826920" y="981000"/>
            <a:ext cx="813780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звани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звание должно быть кратким и точным. Название изобретения, как правило, характеризует его назначение и излагается в единственном числе. Является самостоятельной частью патента, так как заголовки нередко переводятся отдельно от патентов, и по ним составляются картотеки, по которым потом находят описания интересующих изобретени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17:58:25Z</dcterms:created>
  <dc:creator>Admin</dc:creator>
  <dc:description/>
  <dc:language>en-US</dc:language>
  <cp:lastModifiedBy>Наталья</cp:lastModifiedBy>
  <dcterms:modified xsi:type="dcterms:W3CDTF">2022-01-12T16:49:59Z</dcterms:modified>
  <cp:revision>16</cp:revision>
  <dc:subject/>
  <dc:title>Слайд 1</dc:title>
</cp:coreProperties>
</file>