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6B6-3F08-4708-8491-2E768F8B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78E-9354-4B17-851E-E2641B45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9DC-C4CB-4940-81A1-52DC28DA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6D2-A394-48AB-ADC0-28403124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7B5-F052-4EC5-A556-137EBBB6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66EA-70ED-443A-A7FE-C02D0B65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1480-93CB-441F-8A2E-8ECC6B1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3FDC-09E8-4407-B679-7C888092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27A2-95F9-4D89-84AE-22E34127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4F6B-CB42-4E63-A058-F269AE3E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A0C5-A198-4B49-9334-8975B9DC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12B-7BA3-40E9-83B9-4A329D9B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E856-CA87-48E0-8F0F-12AF549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13C4-3766-4CBC-AD0A-9AC414C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8CB1-375D-45DF-81FE-315E539D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BF6E-F530-4526-8DE0-91623659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99E0-8589-4741-B192-607F31FB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97B-212A-4F25-A11E-1C30FB69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1B4-FD3D-4A3E-8F84-E7A576EF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AF3-973E-41FE-820D-108036BC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8AE-CFD9-4ACE-87D4-836EBD9A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26E-C3ED-4465-9A7C-17CE615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D8D-EE1D-462B-BFDF-3067C5D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073-324E-444A-920C-6B504CEA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5546-609E-4159-B4E9-C381492706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2DD7-E215-45C6-B24C-9660C0B303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100500foto.com/wp-content/uploads/2015/06/1-Shoes-with-a-built-in-ten.j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96800"/>
            <a:ext cx="8137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хнолог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интеллектуальной собственности    и авторского пра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87" descr="Защита интеллектуальной собственности"/>
          <p:cNvPicPr/>
          <p:nvPr/>
        </p:nvPicPr>
        <p:blipFill>
          <a:blip r:embed="rId1"/>
          <a:stretch/>
        </p:blipFill>
        <p:spPr>
          <a:xfrm>
            <a:off x="179280" y="2693880"/>
            <a:ext cx="3745080" cy="2671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4636440" y="328464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63680" y="4559400"/>
            <a:ext cx="8326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опыта работ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Р.Мальгивская, учитель технолог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Восходненская школа имени В.И.Криворотова» Красногвардейский район Республика Кр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826920" y="309600"/>
            <a:ext cx="813780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изобре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исание должно раскрывать изобретение с полнотой, достаточной для осуществления. То есть специалист в данной области техники на основании описания должен иметь достаточно информации для  реализации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</a:rPr>
              <a:t>Описание изобретения </a:t>
            </a: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Times New Roman"/>
              </a:rPr>
              <a:t>содержит следующие раздел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ласть техники, к которой относится изобретени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техни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крытие изобретен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аткое, но отражающее главную мысль (суть)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обретения описание чертежей, схем, рисунков,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скизов (если они содержатся в заявк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70272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тящийся рожок для морожено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1999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Рисунок 18" descr="нелепые, абсурдные, патенты, изобретения"/>
          <p:cNvPicPr/>
          <p:nvPr/>
        </p:nvPicPr>
        <p:blipFill>
          <a:blip r:embed="rId1"/>
          <a:srcRect l="10350" t="0" r="9310" b="0"/>
          <a:stretch/>
        </p:blipFill>
        <p:spPr>
          <a:xfrm>
            <a:off x="1042920" y="3141720"/>
            <a:ext cx="3313080" cy="249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rcRect l="4937" t="5291" r="7677" b="0"/>
          <a:stretch/>
        </p:blipFill>
        <p:spPr>
          <a:xfrm>
            <a:off x="4140360" y="2568600"/>
            <a:ext cx="482436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1231920" y="913320"/>
            <a:ext cx="71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оска, которую невозможно выплюну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атент выдан в 2000 г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Рисунок 22" descr="нелепые, абсурдные, патенты, изобретения"/>
          <p:cNvPicPr/>
          <p:nvPr/>
        </p:nvPicPr>
        <p:blipFill>
          <a:blip r:embed="rId1"/>
          <a:srcRect l="25688" t="0" r="23187" b="0"/>
          <a:stretch/>
        </p:blipFill>
        <p:spPr>
          <a:xfrm>
            <a:off x="2916360" y="2708280"/>
            <a:ext cx="3825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425160" y="620640"/>
            <a:ext cx="84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валанг для животных, патент выдан в 2001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Рисунок 14" descr="нелепые, абсурдные, патенты, изобретения"/>
          <p:cNvPicPr/>
          <p:nvPr/>
        </p:nvPicPr>
        <p:blipFill>
          <a:blip r:embed="rId1"/>
          <a:srcRect l="27994" t="0" r="29335" b="0"/>
          <a:stretch/>
        </p:blipFill>
        <p:spPr>
          <a:xfrm>
            <a:off x="2556000" y="1724040"/>
            <a:ext cx="4464000" cy="494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900000" y="629640"/>
            <a:ext cx="755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ы, показывающие оставшееся время жизни, 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Рисунок 16" descr="нелепые, абсурдные, патенты, изобретения"/>
          <p:cNvPicPr/>
          <p:nvPr/>
        </p:nvPicPr>
        <p:blipFill>
          <a:blip r:embed="rId1"/>
          <a:srcRect l="25732" t="0" r="24006" b="0"/>
          <a:stretch/>
        </p:blipFill>
        <p:spPr>
          <a:xfrm>
            <a:off x="1116000" y="2708280"/>
            <a:ext cx="24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rcRect l="4724" t="8797" r="4488" b="9973"/>
          <a:stretch/>
        </p:blipFill>
        <p:spPr>
          <a:xfrm>
            <a:off x="3564000" y="2708280"/>
            <a:ext cx="52560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324160" y="35496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одок для выгуливания зм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Рисунок 20" descr="нелепые, абсурдные, патенты, изобретения"/>
          <p:cNvPicPr/>
          <p:nvPr/>
        </p:nvPicPr>
        <p:blipFill>
          <a:blip r:embed="rId1"/>
          <a:srcRect l="1487" t="76" r="6494" b="4233"/>
          <a:stretch/>
        </p:blipFill>
        <p:spPr>
          <a:xfrm>
            <a:off x="4716360" y="1773360"/>
            <a:ext cx="41626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360036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46360" y="75096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ки, которые крепятся с помощью пирсинга,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тент выдан в 2003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Рисунок 11" descr="нелепые, абсурдные, патенты, изобретения"/>
          <p:cNvPicPr/>
          <p:nvPr/>
        </p:nvPicPr>
        <p:blipFill>
          <a:blip r:embed="rId1"/>
          <a:srcRect l="23049" t="6987" r="23540" b="9881"/>
          <a:stretch/>
        </p:blipFill>
        <p:spPr>
          <a:xfrm>
            <a:off x="811080" y="2276640"/>
            <a:ext cx="3024360" cy="30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rcRect l="13361" t="3265" r="3252" b="0"/>
          <a:stretch/>
        </p:blipFill>
        <p:spPr>
          <a:xfrm>
            <a:off x="3835440" y="1908000"/>
            <a:ext cx="4984560" cy="468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4328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ды со встроенной палатк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56" descr="Кеды со встроенной палатк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57240"/>
            <a:ext cx="777744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2195640" y="1580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таны для пик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Рисунок 58" descr="Штаны для пикника"/>
          <p:cNvPicPr/>
          <p:nvPr/>
        </p:nvPicPr>
        <p:blipFill>
          <a:blip r:embed="rId1"/>
          <a:stretch/>
        </p:blipFill>
        <p:spPr>
          <a:xfrm>
            <a:off x="1258920" y="907920"/>
            <a:ext cx="7561080" cy="568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58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324080" y="9360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ушка в виде коленок девуш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Рисунок 61" descr="Подушка в виде коленок девушки"/>
          <p:cNvPicPr/>
          <p:nvPr/>
        </p:nvPicPr>
        <p:blipFill>
          <a:blip r:embed="rId1"/>
          <a:srcRect l="378" t="0" r="-372" b="12095"/>
          <a:stretch/>
        </p:blipFill>
        <p:spPr>
          <a:xfrm>
            <a:off x="1324080" y="1058760"/>
            <a:ext cx="7640640" cy="5327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0" t="5088" r="0" b="0"/>
          <a:stretch/>
        </p:blipFill>
        <p:spPr>
          <a:xfrm>
            <a:off x="324000" y="907920"/>
            <a:ext cx="8604000" cy="5472360"/>
          </a:xfrm>
          <a:prstGeom prst="rect">
            <a:avLst/>
          </a:prstGeom>
          <a:ln w="0">
            <a:noFill/>
          </a:ln>
        </p:spPr>
      </p:pic>
      <p:sp>
        <p:nvSpPr>
          <p:cNvPr id="97" name="Выноска со стрелкой вниз 1"/>
          <p:cNvSpPr/>
          <p:nvPr/>
        </p:nvSpPr>
        <p:spPr>
          <a:xfrm>
            <a:off x="2987640" y="298440"/>
            <a:ext cx="3097080" cy="574560"/>
          </a:xfrm>
          <a:prstGeom prst="down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759040" y="203040"/>
            <a:ext cx="50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игинальные туф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Рисунок 62" descr="Оригинальные туфли"/>
          <p:cNvPicPr/>
          <p:nvPr/>
        </p:nvPicPr>
        <p:blipFill>
          <a:blip r:embed="rId1"/>
          <a:srcRect l="0" t="0" r="0" b="11088"/>
          <a:stretch/>
        </p:blipFill>
        <p:spPr>
          <a:xfrm>
            <a:off x="1258920" y="1484280"/>
            <a:ext cx="7634160" cy="5113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0" y="57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468520" y="301320"/>
            <a:ext cx="49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нтилятор для лапш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Рисунок 63" descr="Вентилятор ramen"/>
          <p:cNvPicPr/>
          <p:nvPr/>
        </p:nvPicPr>
        <p:blipFill>
          <a:blip r:embed="rId1"/>
          <a:srcRect l="0" t="0" r="0" b="10659"/>
          <a:stretch/>
        </p:blipFill>
        <p:spPr>
          <a:xfrm>
            <a:off x="1187280" y="1230480"/>
            <a:ext cx="7777440" cy="497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484360" y="91800"/>
            <a:ext cx="40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ыло в виде р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Рисунок 66" descr="Мыло в виде руки"/>
          <p:cNvPicPr/>
          <p:nvPr/>
        </p:nvPicPr>
        <p:blipFill>
          <a:blip r:embed="rId1"/>
          <a:srcRect l="0" t="0" r="0" b="6703"/>
          <a:stretch/>
        </p:blipFill>
        <p:spPr>
          <a:xfrm>
            <a:off x="1258920" y="836640"/>
            <a:ext cx="7561080" cy="576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648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1005840" y="599760"/>
            <a:ext cx="76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мая большая в мире кофейная чаш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Рисунок 68" descr="Самая большая в мире кофейная чашка"/>
          <p:cNvPicPr/>
          <p:nvPr/>
        </p:nvPicPr>
        <p:blipFill>
          <a:blip r:embed="rId1"/>
          <a:stretch/>
        </p:blipFill>
        <p:spPr>
          <a:xfrm>
            <a:off x="1908000" y="1628640"/>
            <a:ext cx="5185080" cy="506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3640" y="301320"/>
            <a:ext cx="547992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50920" y="18273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Подготовьте сообщение на тем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Рационализаторские предложения и их авторы</a:t>
            </a: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13846" t="28105" r="14618" b="0"/>
          <a:stretch/>
        </p:blipFill>
        <p:spPr>
          <a:xfrm>
            <a:off x="755640" y="177624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00000" y="907920"/>
            <a:ext cx="7993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ая соб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закреплённые законом  исключительные  права  на  результат интеллектуальной  деятельности  или  средства индивиду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одательство, которое определяет права на интеллектуальную собственность, устанавливает монополию авторов на определённые формы использования результатов своей интеллектуальной, творческой деятельности, которые, таким образом, могут использоваться другими лицами лишь с разрешения перв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Выноска со стрелкой вниз 1"/>
          <p:cNvSpPr/>
          <p:nvPr/>
        </p:nvSpPr>
        <p:spPr>
          <a:xfrm>
            <a:off x="900000" y="260280"/>
            <a:ext cx="3311640" cy="6476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79280" y="243828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5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рское пра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ъектами авторского права являютс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изведения науки, литературы и искусств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являющиеся результатом творческой деятельност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ющие в объективной форме, т.е. в форм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зволяющей иным лицам, кроме автор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накомиться с произведение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рукопись, рисунок, скульптура и т.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Выноска со стрелкой вниз 1"/>
          <p:cNvSpPr/>
          <p:nvPr/>
        </p:nvSpPr>
        <p:spPr>
          <a:xfrm>
            <a:off x="2916360" y="1790640"/>
            <a:ext cx="3024000" cy="649440"/>
          </a:xfrm>
          <a:prstGeom prst="downArrowCallout">
            <a:avLst>
              <a:gd name="adj1" fmla="val 25008"/>
              <a:gd name="adj2" fmla="val 24984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755640" y="404640"/>
            <a:ext cx="7993080" cy="947160"/>
          </a:xfrm>
          <a:prstGeom prst="rect">
            <a:avLst/>
          </a:prstGeom>
          <a:solidFill>
            <a:srgbClr val="eb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бъектом авторского пра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476280"/>
            <a:ext cx="77770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и срок действия авторского пра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у в отношении его произведения принадлежат исключительные права на использование произведения в любой форме и любым способо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вторское право действует в течение всей жизни автора и 50 лет после его смерти.</a:t>
            </a:r>
            <a:br>
              <a:rPr sz="3200"/>
            </a:br>
            <a:br>
              <a:rPr sz="24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7440" y="692280"/>
            <a:ext cx="7705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к охраны авторского прав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повещения о своих правах автор может использовать знак охраны авторского права, который помещается на каждом экземпляре произведения и состоит из трех элементов: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</a:rPr>
              <a:t>латинской буквы "С" в окружности; имени автора; года первого опубликования произведения.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765000"/>
            <a:ext cx="806616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ение доказательства автор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ское право возникает в силу факта создания произведения и не требует регистрации. Автор может обеспечить доказательства своего авторства путем регистрации своего произведения                  в общественных организациях (например,               в Российском авторском обществе), в некоторых случаях - в государственных организациях. Регистрация является добровольной и облагается государственной пош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81200" y="549360"/>
            <a:ext cx="820872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ранный документ, удостоверяющий исключительное право, авторство и приоритет изобретения , полезной  модели  либо  промышленного образц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Срок действия патента зависит от страны патентования, объекта патентования и составляет от 5 до 25 л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Выноска со стрелкой вниз 1"/>
          <p:cNvSpPr/>
          <p:nvPr/>
        </p:nvSpPr>
        <p:spPr>
          <a:xfrm>
            <a:off x="360360" y="115920"/>
            <a:ext cx="3168720" cy="554040"/>
          </a:xfrm>
          <a:prstGeom prst="downArrowCallout">
            <a:avLst>
              <a:gd name="adj1" fmla="val 24998"/>
              <a:gd name="adj2" fmla="val 24995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826920" y="981000"/>
            <a:ext cx="8137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звание должно быть кратким и точным. Название изобретения, как правило, характеризует его назначение и излагается в единственном числе. Является самостоятельной частью патента, так как заголовки нередко переводятся отдельно от патентов, и по ним составляются картотеки, по которым потом находят описания интересующих изобрет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58:25Z</dcterms:created>
  <dc:creator>Admin</dc:creator>
  <dc:description/>
  <dc:language>en-US</dc:language>
  <cp:lastModifiedBy>Наталья</cp:lastModifiedBy>
  <dcterms:modified xsi:type="dcterms:W3CDTF">2022-01-12T16:49:59Z</dcterms:modified>
  <cp:revision>16</cp:revision>
  <dc:subject/>
  <dc:title>Слайд 1</dc:title>
</cp:coreProperties>
</file>