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A2B-B74F-4EDC-ACB4-60FFF9C2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F80-4F41-4D90-9D43-939F6D49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ACD-B6FE-4393-A0C2-F5BCDD63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0E9-1A82-4CC3-A3D5-B8E246EC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DE9F-12A0-4964-A340-2DF5BBC2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2C3B-487B-494B-BB57-385A2C1B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CD40-9B53-4FD6-A4B7-647F3F4D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C356-426C-4BB4-9813-45C48E0D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6E51-9B99-44E9-941E-BA1E3E9B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96E2-9566-4680-9FEF-C548EC81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201E-E4AC-42D8-B14E-2B20C207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4E5-A4EF-40D2-9A51-F20727E2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C209-7DEB-424F-B098-A6119158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E8C1-6DAC-4555-B5C0-037C63D9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D6F5-81E0-4082-8344-7D908C2E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FA66-7AEE-4940-9F2F-D2B5A25C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8664-F145-4B1B-84A7-5933DBE4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E9D-71E3-416C-85D6-02088A40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9F7-4E2F-4F62-9DD8-71904F19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A92-FFB1-459B-BAC7-42036FD6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3AA-3A44-41A4-A32B-97A2EB4E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80F-5B97-4A67-B9EB-D92D898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86C-4DF1-4639-AD3D-2A4ECFCF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44F-C7EB-4D96-9AA6-2058FC11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6D7D-CB54-4BB9-B833-4F02176E86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C815-0585-4D65-B27D-DCE3DC6087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100500foto.com/wp-content/uploads/2015/06/1-Shoes-with-a-built-in-ten.jp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496800"/>
            <a:ext cx="8137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ехнолог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щита интеллектуальной собственности    и авторского пра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87" descr="Защита интеллектуальной собственности"/>
          <p:cNvPicPr/>
          <p:nvPr/>
        </p:nvPicPr>
        <p:blipFill>
          <a:blip r:embed="rId1"/>
          <a:stretch/>
        </p:blipFill>
        <p:spPr>
          <a:xfrm>
            <a:off x="179280" y="2693880"/>
            <a:ext cx="3745080" cy="26719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4636440" y="3284640"/>
            <a:ext cx="15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63680" y="4559400"/>
            <a:ext cx="8326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опыта работы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Р.Мальгивская, учитель технологи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Восходненская школа имени В.И.Криворотова» Красногвардейский район Республика Кры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0г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826920" y="309600"/>
            <a:ext cx="813780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изобрет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исание должно раскрывать изобретение с полнотой, достаточной для осуществления. То есть специалист в данной области техники на основании описания должен иметь достаточно информации для  реализации изобрет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Times New Roman"/>
              </a:rPr>
              <a:t>Описание изобретения </a:t>
            </a:r>
            <a:r>
              <a:rPr b="0" i="1" lang="ru-RU" sz="2600" spc="-1" strike="noStrike" u="sng">
                <a:solidFill>
                  <a:srgbClr val="002060"/>
                </a:solidFill>
                <a:uFillTx/>
                <a:latin typeface="Times New Roman"/>
              </a:rPr>
              <a:t>содержит следующие разделы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ласть техники, к которой относится изобретени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техни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крытие изобретен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аткое, но отражающее главную мысль (суть)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обретения описание чертежей, схем, рисунков,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скизов (если они содержатся в заявк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изобрет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826920" y="70272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тящийся рожок для мороженого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ент выдан в 1999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Рисунок 18" descr="нелепые, абсурдные, патенты, изобретения"/>
          <p:cNvPicPr/>
          <p:nvPr/>
        </p:nvPicPr>
        <p:blipFill>
          <a:blip r:embed="rId1"/>
          <a:srcRect l="10350" t="0" r="9310" b="0"/>
          <a:stretch/>
        </p:blipFill>
        <p:spPr>
          <a:xfrm>
            <a:off x="1042920" y="3141720"/>
            <a:ext cx="3313080" cy="2494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rcRect l="4937" t="5291" r="7677" b="0"/>
          <a:stretch/>
        </p:blipFill>
        <p:spPr>
          <a:xfrm>
            <a:off x="4140360" y="2568600"/>
            <a:ext cx="482436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1231920" y="913320"/>
            <a:ext cx="719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Соска, которую невозможно выплюну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Calibri"/>
              </a:rPr>
              <a:t>патент выдан в 2000 год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Рисунок 22" descr="нелепые, абсурдные, патенты, изобретения"/>
          <p:cNvPicPr/>
          <p:nvPr/>
        </p:nvPicPr>
        <p:blipFill>
          <a:blip r:embed="rId1"/>
          <a:srcRect l="25688" t="0" r="23187" b="0"/>
          <a:stretch/>
        </p:blipFill>
        <p:spPr>
          <a:xfrm>
            <a:off x="2916360" y="2708280"/>
            <a:ext cx="3825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53704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425160" y="620640"/>
            <a:ext cx="84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валанг для животных, патент выдан в 2001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Рисунок 14" descr="нелепые, абсурдные, патенты, изобретения"/>
          <p:cNvPicPr/>
          <p:nvPr/>
        </p:nvPicPr>
        <p:blipFill>
          <a:blip r:embed="rId1"/>
          <a:srcRect l="27994" t="0" r="29335" b="0"/>
          <a:stretch/>
        </p:blipFill>
        <p:spPr>
          <a:xfrm>
            <a:off x="2556000" y="1724040"/>
            <a:ext cx="4464000" cy="4944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900000" y="629640"/>
            <a:ext cx="755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ы, показывающие оставшееся время жизни, патент выдан в 2002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Рисунок 16" descr="нелепые, абсурдные, патенты, изобретения"/>
          <p:cNvPicPr/>
          <p:nvPr/>
        </p:nvPicPr>
        <p:blipFill>
          <a:blip r:embed="rId1"/>
          <a:srcRect l="25732" t="0" r="24006" b="0"/>
          <a:stretch/>
        </p:blipFill>
        <p:spPr>
          <a:xfrm>
            <a:off x="1116000" y="2708280"/>
            <a:ext cx="2448000" cy="381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rcRect l="4724" t="8797" r="4488" b="9973"/>
          <a:stretch/>
        </p:blipFill>
        <p:spPr>
          <a:xfrm>
            <a:off x="3564000" y="2708280"/>
            <a:ext cx="52560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324160" y="354960"/>
            <a:ext cx="642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одок для выгуливания зме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ент выдан в 2002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Рисунок 20" descr="нелепые, абсурдные, патенты, изобретения"/>
          <p:cNvPicPr/>
          <p:nvPr/>
        </p:nvPicPr>
        <p:blipFill>
          <a:blip r:embed="rId1"/>
          <a:srcRect l="1487" t="76" r="6494" b="4233"/>
          <a:stretch/>
        </p:blipFill>
        <p:spPr>
          <a:xfrm>
            <a:off x="4716360" y="1773360"/>
            <a:ext cx="41626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360036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846360" y="750960"/>
            <a:ext cx="78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ки, которые крепятся с помощью пирсинга,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тент выдан в 2003 го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Рисунок 11" descr="нелепые, абсурдные, патенты, изобретения"/>
          <p:cNvPicPr/>
          <p:nvPr/>
        </p:nvPicPr>
        <p:blipFill>
          <a:blip r:embed="rId1"/>
          <a:srcRect l="23049" t="6987" r="23540" b="9881"/>
          <a:stretch/>
        </p:blipFill>
        <p:spPr>
          <a:xfrm>
            <a:off x="811080" y="2276640"/>
            <a:ext cx="3024360" cy="302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rcRect l="13361" t="3265" r="3252" b="0"/>
          <a:stretch/>
        </p:blipFill>
        <p:spPr>
          <a:xfrm>
            <a:off x="3835440" y="1908000"/>
            <a:ext cx="4984560" cy="4689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943280" y="189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еды со встроенной палатк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Рисунок 56" descr="Кеды со встроенной палатко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957240"/>
            <a:ext cx="7777440" cy="568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2195640" y="1580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Штаны для пик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Рисунок 58" descr="Штаны для пикника"/>
          <p:cNvPicPr/>
          <p:nvPr/>
        </p:nvPicPr>
        <p:blipFill>
          <a:blip r:embed="rId1"/>
          <a:stretch/>
        </p:blipFill>
        <p:spPr>
          <a:xfrm>
            <a:off x="1258920" y="907920"/>
            <a:ext cx="7561080" cy="5689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58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324080" y="93600"/>
            <a:ext cx="69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душка в виде коленок девуш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Рисунок 61" descr="Подушка в виде коленок девушки"/>
          <p:cNvPicPr/>
          <p:nvPr/>
        </p:nvPicPr>
        <p:blipFill>
          <a:blip r:embed="rId1"/>
          <a:srcRect l="378" t="0" r="-372" b="12095"/>
          <a:stretch/>
        </p:blipFill>
        <p:spPr>
          <a:xfrm>
            <a:off x="1324080" y="1058760"/>
            <a:ext cx="7640640" cy="5327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rcRect l="0" t="5088" r="0" b="0"/>
          <a:stretch/>
        </p:blipFill>
        <p:spPr>
          <a:xfrm>
            <a:off x="324000" y="907920"/>
            <a:ext cx="8604000" cy="5472360"/>
          </a:xfrm>
          <a:prstGeom prst="rect">
            <a:avLst/>
          </a:prstGeom>
          <a:ln w="0">
            <a:noFill/>
          </a:ln>
        </p:spPr>
      </p:pic>
      <p:sp>
        <p:nvSpPr>
          <p:cNvPr id="97" name="Выноска со стрелкой вниз 1"/>
          <p:cNvSpPr/>
          <p:nvPr/>
        </p:nvSpPr>
        <p:spPr>
          <a:xfrm>
            <a:off x="2987640" y="298440"/>
            <a:ext cx="3097080" cy="574560"/>
          </a:xfrm>
          <a:prstGeom prst="downArrowCallout">
            <a:avLst>
              <a:gd name="adj1" fmla="val 25008"/>
              <a:gd name="adj2" fmla="val 25005"/>
              <a:gd name="adj3" fmla="val 25000"/>
              <a:gd name="adj4" fmla="val 6497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759040" y="203040"/>
            <a:ext cx="505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ригинальные туф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Рисунок 62" descr="Оригинальные туфли"/>
          <p:cNvPicPr/>
          <p:nvPr/>
        </p:nvPicPr>
        <p:blipFill>
          <a:blip r:embed="rId1"/>
          <a:srcRect l="0" t="0" r="0" b="11088"/>
          <a:stretch/>
        </p:blipFill>
        <p:spPr>
          <a:xfrm>
            <a:off x="1258920" y="1484280"/>
            <a:ext cx="7634160" cy="5113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0" y="577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2468520" y="301320"/>
            <a:ext cx="492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нтилятор для лапш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Рисунок 63" descr="Вентилятор ramen"/>
          <p:cNvPicPr/>
          <p:nvPr/>
        </p:nvPicPr>
        <p:blipFill>
          <a:blip r:embed="rId1"/>
          <a:srcRect l="0" t="0" r="0" b="10659"/>
          <a:stretch/>
        </p:blipFill>
        <p:spPr>
          <a:xfrm>
            <a:off x="1187280" y="1230480"/>
            <a:ext cx="7777440" cy="4971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2484360" y="91800"/>
            <a:ext cx="402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ыло в виде ру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Рисунок 66" descr="Мыло в виде руки"/>
          <p:cNvPicPr/>
          <p:nvPr/>
        </p:nvPicPr>
        <p:blipFill>
          <a:blip r:embed="rId1"/>
          <a:srcRect l="0" t="0" r="0" b="6703"/>
          <a:stretch/>
        </p:blipFill>
        <p:spPr>
          <a:xfrm>
            <a:off x="1258920" y="836640"/>
            <a:ext cx="7561080" cy="576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0" y="648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1005840" y="599760"/>
            <a:ext cx="76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амая большая в мире кофейная чаш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Рисунок 68" descr="Самая большая в мире кофейная чашка"/>
          <p:cNvPicPr/>
          <p:nvPr/>
        </p:nvPicPr>
        <p:blipFill>
          <a:blip r:embed="rId1"/>
          <a:stretch/>
        </p:blipFill>
        <p:spPr>
          <a:xfrm>
            <a:off x="1908000" y="1628640"/>
            <a:ext cx="5185080" cy="5069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03640" y="301320"/>
            <a:ext cx="547992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50920" y="18273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Verdana"/>
              </a:rPr>
              <a:t>Подготовьте сообщение на тему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Verdana"/>
              </a:rPr>
              <a:t>“</a:t>
            </a:r>
            <a:r>
              <a:rPr b="1" lang="ru-RU" sz="2900" spc="-1" strike="noStrike">
                <a:solidFill>
                  <a:srgbClr val="c00000"/>
                </a:solidFill>
                <a:latin typeface="Verdana"/>
              </a:rPr>
              <a:t>Рационализаторские предложения и их авторы</a:t>
            </a:r>
            <a:r>
              <a:rPr b="1" lang="en-US" sz="2900" spc="-1" strike="noStrike">
                <a:solidFill>
                  <a:srgbClr val="c00000"/>
                </a:solidFill>
                <a:latin typeface="Verdana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rcRect l="13846" t="28105" r="14618" b="0"/>
          <a:stretch/>
        </p:blipFill>
        <p:spPr>
          <a:xfrm>
            <a:off x="755640" y="1776240"/>
            <a:ext cx="3095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900000" y="907920"/>
            <a:ext cx="79930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ая собстве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закреплённые законом  исключительные  права  на  результат интеллектуальной  деятельности  или  средства индивиду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онодательство, которое определяет права на интеллектуальную собственность, устанавливает монополию авторов на определённые формы использования результатов своей интеллектуальной, творческой деятельности, которые, таким образом, могут использоваться другими лицами лишь с разрешения перв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Выноска со стрелкой вниз 1"/>
          <p:cNvSpPr/>
          <p:nvPr/>
        </p:nvSpPr>
        <p:spPr>
          <a:xfrm>
            <a:off x="900000" y="260280"/>
            <a:ext cx="3311640" cy="647640"/>
          </a:xfrm>
          <a:prstGeom prst="downArrowCallout">
            <a:avLst>
              <a:gd name="adj1" fmla="val 25001"/>
              <a:gd name="adj2" fmla="val 24999"/>
              <a:gd name="adj3" fmla="val 25000"/>
              <a:gd name="adj4" fmla="val 6497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179280" y="2438280"/>
            <a:ext cx="87138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54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вторское прав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бъектами авторского права являютс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изведения науки, литературы и искусств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являющиеся результатом творческой деятельности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уществующие в объективной форме, т.е. в форм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зволяющей иным лицам, кроме автора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накомиться с произведение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 рукопись, рисунок, скульптура и т.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Выноска со стрелкой вниз 1"/>
          <p:cNvSpPr/>
          <p:nvPr/>
        </p:nvSpPr>
        <p:spPr>
          <a:xfrm>
            <a:off x="2916360" y="1790640"/>
            <a:ext cx="3024000" cy="649440"/>
          </a:xfrm>
          <a:prstGeom prst="downArrowCallout">
            <a:avLst>
              <a:gd name="adj1" fmla="val 25008"/>
              <a:gd name="adj2" fmla="val 24984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755640" y="404640"/>
            <a:ext cx="7993080" cy="947160"/>
          </a:xfrm>
          <a:prstGeom prst="rect">
            <a:avLst/>
          </a:prstGeom>
          <a:solidFill>
            <a:srgbClr val="eb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умай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объектом авторского прав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042920" y="476280"/>
            <a:ext cx="7777080" cy="67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и срок действия авторского пра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тору в отношении его произведения принадлежат исключительные права на использование произведения в любой форме и любым способо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вторское право действует в течение всей жизни автора и 50 лет после его смерти.</a:t>
            </a:r>
            <a:br>
              <a:rPr sz="3200"/>
            </a:br>
            <a:br>
              <a:rPr sz="24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17440" y="692280"/>
            <a:ext cx="7705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к охраны авторского права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оповещения о своих правах автор может использовать знак охраны авторского права, который помещается на каждом экземпляре произведения и состоит из трех элементов: </a:t>
            </a:r>
            <a:r>
              <a:rPr b="0" i="1" lang="ru-RU" sz="2400" spc="-1" strike="noStrike">
                <a:solidFill>
                  <a:srgbClr val="269999"/>
                </a:solidFill>
                <a:latin typeface="Verdana"/>
              </a:rPr>
              <a:t>латинской буквы "С" в окружности; имени автора; года первого опубликования произведения.</a:t>
            </a:r>
            <a:br>
              <a:rPr sz="2400"/>
            </a:b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26920" y="765000"/>
            <a:ext cx="8066160" cy="58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еспечение доказательства автор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рское право возникает в силу факта создания произведения и не требует регистрации. Автор может обеспечить доказательства своего авторства путем регистрации своего произведения                  в общественных организациях (например,               в Российском авторском обществе), в некоторых случаях - в государственных организациях. Регистрация является добровольной и облагается государственной пошли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781200" y="549360"/>
            <a:ext cx="8208720" cy="43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хранный документ, удостоверяющий исключительное право, авторство и приоритет изобретения , полезной  модели  либо  промышленного образц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</a:rPr>
              <a:t>Срок действия патента зависит от страны патентования, объекта патентования и составляет от 5 до 25 л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Выноска со стрелкой вниз 1"/>
          <p:cNvSpPr/>
          <p:nvPr/>
        </p:nvSpPr>
        <p:spPr>
          <a:xfrm>
            <a:off x="360360" y="115920"/>
            <a:ext cx="3168720" cy="554040"/>
          </a:xfrm>
          <a:prstGeom prst="downArrowCallout">
            <a:avLst>
              <a:gd name="adj1" fmla="val 24998"/>
              <a:gd name="adj2" fmla="val 24995"/>
              <a:gd name="adj3" fmla="val 25000"/>
              <a:gd name="adj4" fmla="val 6497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пишите в тетрад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826920" y="981000"/>
            <a:ext cx="813780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зва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звание должно быть кратким и точным. Название изобретения, как правило, характеризует его назначение и излагается в единственном числе. Является самостоятельной частью патента, так как заголовки нередко переводятся отдельно от патентов, и по ним составляются картотеки, по которым потом находят описания интересующих изобрет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17:58:25Z</dcterms:created>
  <dc:creator>Admin</dc:creator>
  <dc:description/>
  <dc:language>en-US</dc:language>
  <cp:lastModifiedBy>Наталья</cp:lastModifiedBy>
  <dcterms:modified xsi:type="dcterms:W3CDTF">2022-01-12T16:49:59Z</dcterms:modified>
  <cp:revision>16</cp:revision>
  <dc:subject/>
  <dc:title>Слайд 1</dc:title>
</cp:coreProperties>
</file>